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7391-ECA2-45A8-8E76-994169C6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73E-C99F-426F-9378-4A69216E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ED459-AEBA-4F0A-97B5-FF7F59E8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46C55-B526-45B2-B337-F2E52B1B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45C06-B3DC-44CE-875D-93FAA019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026C2-A78A-4BC0-BF15-5BF81B60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B3960-1885-4CEE-B856-30C4F22D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DA268-4FFD-417F-9322-ED1DC59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04BF8-D954-4477-9971-EDFA449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437F5-11CA-4A20-8D86-4BCCA0CB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32FF-DFC9-414F-A652-1A99EB3AA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7761-323A-410E-AB3A-892A2441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0FC7-A740-4381-AF50-8EAC1E839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9798B-6F73-49D6-8C8C-E10ADE63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259F1-52FA-4839-B1B8-3C09988D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7743-A695-471C-BA8A-BC7F3DDB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DB1CD-1AF6-448F-B21A-51752D21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D7118-D2B0-4A58-A891-EDAF5493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3644F-D8C0-4C5C-A526-40EB4B6E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C3F06-B916-47FF-B823-12639A8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AD1C2-8268-4341-9581-05AB5B9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96A8C-F59D-4642-96D2-163BD32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3A25B-3F6E-466B-B216-6EDB1518A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1F33-C2D9-4D33-9217-58308D02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0F4F0-7651-46F1-8C53-C20F5CF5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68DC4-2E99-4A6E-8C76-6B22E3C3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12096-5D78-48E8-B4F4-879372BE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9893E-C424-4CBB-AB4C-4E663D4C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8A87A-09DB-4244-B1BA-173CF580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C7482-CFB9-437D-9B07-9B7F62B6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86DC0-28F2-40AB-BC6C-B1E619A4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8EFD7-79A9-485B-95C3-55E51D4B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A376E-C96F-453D-9FE1-A092FE63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8E3F4-D559-4264-AD4D-53FB474A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F3F65-8623-47E6-AAE1-F0E4C9B0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3264D-B0CE-43E5-B541-D2D8E9A43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74D05-CA81-4B4A-9A8E-FECC8DFE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9CA70-AC48-4BD6-82E9-F68260A2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6CC91-6AD4-4853-82CE-4E4E42FC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C7D34-63AC-41A7-8755-04E9AB6F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EB223-E4EF-4369-B1B0-F8CF3447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C3FDE-0E1A-471F-9734-6083B616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EEFEA-E906-481B-B9CB-D1938E98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43BBD9-4273-49E3-9798-64A17A26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36145-18A9-42EF-94BD-B9716DB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A946F-0779-4055-A795-E4A02141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2F3C3-D772-4097-BD9B-CCE6AAA6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1E7695-EE55-4F92-AC7B-5AED043FA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F111D-13FD-4810-BA5A-1E88856B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09FCB-C4FB-4D3F-825A-EDF658ED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22C5F-03B3-4113-B1C7-C9E4E59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19DB-2BE2-4A7D-B8F5-95C4DA39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9E5BD-4EE7-4BA1-8FDB-67CDFBF4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7C9D9-B31C-4957-B793-81510BE6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44A6A-5255-4138-89CF-05D5EF49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F408D-FC69-4C82-8309-E83AAF41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49789-E169-4B1D-BA6F-461040D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9FA1C-B112-487F-83D3-63AEA73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C6C32-7054-4117-BC5C-924ED38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51F0D-7425-4B61-947B-3EA8A3A5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A74E3-A068-4C30-8FE1-9991AD92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3A712-370B-42A9-965F-EDB9E5FB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E30F8-2A93-47CB-B676-3FE30EE6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6FFC8-9F05-4AC1-B32E-A13073F1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6769D-FE7A-4D59-835F-5F869025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AFBFE-BF08-4562-88C2-AA8CF843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0E00F-49DF-4261-9D96-94AE1450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9226D-8522-4F01-A2E7-518D226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7069F-8966-48BF-B89D-9D47AD0A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87D22-9AB7-4745-B45F-34E37D00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2321B-4E47-46F7-A30E-480ACD89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611FF-9CCB-4E2A-8045-8B2AB667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90294-2AF3-4C07-B0E5-117D75B3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E161E-618F-45F1-88A4-469794D23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B6E5D-030F-4C63-BD25-14217EF9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0642C-60C6-4D15-B182-94CCA54C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B637F-55A2-48CC-AC5B-7D3411D7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D9C6D-3B98-4DAB-835C-7546C6B9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31A46-124B-44AF-95E9-B701540B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A5AE1-8643-4E01-84FB-831C89D09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B40C6-91D7-4780-AB8C-855BFD8E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BB00C-1065-42B4-8BD1-79688231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DD6ED-6B51-406D-9F12-881F5A34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A09B9-BD4D-4B8E-90C8-A117E693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F4F20B-9C09-4598-A2B2-000229A1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2DC0B-32F2-43EE-A240-441BBA34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06B0E-5788-4C0B-9D04-C66E62D7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217309-044E-49D3-8339-0D8BABD0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2EB01D-504A-4A0E-831C-9B788226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FEF5AA-A511-4DDE-A8CD-F23CBEE2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5BCE6-5FD9-4A6F-A986-7BB3CBDD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F9D07B-E836-436C-95CA-62E31F5F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003312-0B8A-448D-84F7-8D98D96D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39327-5E97-4684-B2C6-F4BA081D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A335C-6CDB-43AE-A3DD-EC35C87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BB46F-37D8-4C92-8A07-05E27F98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91B59A-7D51-4ACB-BF02-60CC17976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6759F-407F-4AB2-9DA6-07A00A92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BF7932-515F-43E3-9A56-F7E397B6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8E52AF-718E-4A50-B732-FFB495C9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05D92-2A6F-4F76-8A7C-8D316526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09BA1A-CD31-481D-945C-4881DBB5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CC4DB-9521-4F28-A12C-4765DAC1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3AD16-5C33-4AA0-8D3B-32FCC93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2E8-B8ED-49AF-81FE-FEBF5F8A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3E040-AC16-464A-A806-5E751D40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9DCF8E-08DE-4A59-AF3B-C12FF7AA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E36CE4-6108-4E9C-9C77-8454F3C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00A3D-854B-4A98-8C84-132E11D0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26C26-C65C-4298-BAB4-2BB4D320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F20A4E-87B2-41FC-B385-1D16EAFF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C99E4-9C84-4F2B-AE02-712512EC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787FA-3284-416B-837F-06CAE235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1570E-F1B3-4B3F-B059-96302664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E4F2A-C657-48CE-82F3-7A3B6344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20A7B8-9670-47DA-9C69-EC394E6C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6050A-22C1-432A-AD85-61C6416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754AE-400B-4BB0-AFEB-541D8F5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AC42BD-2D7D-4A16-9939-B165BD7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73CABB-F5D9-4FF1-A7AD-525BBBF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8690E-B931-4DCA-981E-58E41E63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91F060-57F6-4F9D-9E6B-BE386458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D9BBF-7A72-47F1-B907-A8E59794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4B4A3E-6BD7-45B7-A9D5-338B8FB0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AD13C-EF82-4D8C-BDF6-CDF0FA7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EBF03-24AB-406F-BF2C-29E3D314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C21985-9CD5-4630-B9D8-3BEF7650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6A947C-E883-423D-BFFC-87ADEE9E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05F1E1-515C-4399-A22F-5DFD077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C4DCF-D69D-4EF3-B86E-5998D3CF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9F766-320B-4A86-8CF4-E630467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D6E992-1C95-489D-BCCD-64490D75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3B405-B26E-4CC0-AE41-A6E388F1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D82047-1E21-470B-BE8E-1A534328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42E25-479E-4C9D-9976-4A499A4E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FE187-9A50-4FFB-BA41-76F72A47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D0FB8-B2BC-45C7-A43E-F97D4C07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1C2543-5D71-411B-8063-7E77E53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25226-5AA2-4B24-A7B2-A01DC41F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02245-B714-4E9D-B04C-0CEF61F3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301E43-3EBB-4517-A647-AB086ED9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61E50-D26B-44B9-A5C0-CE34F84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75C75E-D7D0-4E6C-B482-730B735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D1144-5F5A-4291-9513-407E572E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8E2D1-3366-467F-B5C7-A63B040D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E08F24-5229-44F3-8DFA-81D88BCDA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4B6C56-7240-4245-B888-A3CD23E1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C654F-5FA2-42ED-844E-C541846D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7AA44-4140-4412-8FF6-0BD781FD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DABC9F-0869-406F-B28E-7214754E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0C357F-EA3D-48C5-8BA8-E342F7C2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13EAC3-0016-4361-A3B8-553D09F5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24111-93ED-4253-9D0B-35F0F01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C265F-569D-4302-846A-84D28995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D73FB5-8616-4233-8436-F88FFD42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3F615-6C39-4E68-A0FF-F895E4E2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69FDB8-A5FD-467A-8B71-19793376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9BF129-4239-44C3-A4F8-7855BBBE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4E2D57-8606-4ACB-A110-45DFE0674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DB406-DA64-46DF-8150-5399A158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EC73E5-7885-4896-995E-C5B5FE3C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55EEBA-DDAF-450E-A2E4-3A768BAA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CC512-9E7D-4778-BCDB-34455EDE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9F91A4-897A-4F2E-B06B-B3CFB1DF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4A5895-8CCA-480D-B421-ADD0E316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E87EE-98B8-473C-80E6-0A8CC1CD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82CF5-A4B6-4596-BA60-9575F62D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25070E-6440-4AE0-AA55-60DAB83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A6012-9E12-4F74-8AA7-431F1B37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34CAB1-40D4-4D8F-8BBC-9C52CD9A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9AEAF4-8178-4E27-A18C-83E0A1EC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07F696-F7C9-4A64-9733-C299BC31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7749E3-9A9F-4606-A1A1-899CD159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DF62B-BC52-443E-A1B3-8914B8CD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903216-3F75-49AF-A9D0-9E32BFE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538F6-FBD2-4EEC-95FF-9C454B48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71FF9F-0EBB-4378-A2DA-763DDF2C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7BDA84-FFCB-440E-BA8E-2B52C408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72FF3-9AAE-4D6B-9708-794FD8C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573225-AC88-41E5-BDF5-898EF343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D749A8-3898-4F7A-AC42-E94C4C1D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657717-3BD4-47B6-A1D8-44511BCA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1A57D4-7F41-4CDA-85A3-8068533F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54092-BB5F-43AA-B5AA-BBC21359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761778-9FBB-400E-A602-A054834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648FCE-4EBE-409C-91D9-67FF0C43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A9BE2F-96EB-4AA9-8DE0-EA8295A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D991D7-1955-40E9-A56A-E671CA78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F2D24D-F93B-4EEE-AEF5-4C0AE1BD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B1AEB0-9ADF-4951-9159-5DFB174C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AEA07-3C57-4949-B1DA-9ED9C88C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A818B4-CB99-4749-BE97-DE0DECA9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E11D76-EB5B-4BA5-9BB2-0CDF15573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EC2D16-F9C6-442A-BEBF-1F1FE301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B9C94F-FE17-4544-B166-D9546FB17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53921-F1DA-4F5E-8CE8-E6396B0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BBF5EE-3457-4FE1-9B98-697B186C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797BAA-BC52-4082-A817-98BB6E5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17E477-CF45-4287-B8B8-BAA4B60A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326A5-29D7-4110-B149-D19E0C2C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BC3E9-A7C2-47C3-901B-52FCB70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D6F45B-4B75-46E3-97B3-87B5FFF1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CC45D3-32F9-4E2F-AC48-6471C3EF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5C2F90-2AA0-4E1D-B332-1B167B6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7F6F21-3F19-4110-A87D-932DB7B5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C9F-4A27-45E4-8621-1BA9E845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24140A-0E54-480B-B550-643510E7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7468DB-8764-457D-A9CC-280B7892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91D9EE-3C19-4E3C-BA7E-05AE150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BB7A42-4BD9-4BD7-ADC8-BC5A05C2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831703-B314-4B3C-A335-5EAB008C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E4F5D0-CDF5-40CA-9351-7FB5D428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346E8F-B633-4B67-946F-3DD33D31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CF8E52-186E-4194-ACB0-BAA8F770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C1BE2C-70CD-442F-870D-4ADD92AE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62992CC-4ADD-450D-BF16-3B2FBEA7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FD8B05-5641-4FE7-93EF-D2126F1C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710543-C2AB-4E8C-ACDB-FD8843A8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2D9A4E-56B5-433A-8B12-7F824EA4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B29C81-DE9B-4CB1-889E-AF9E9C39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F0A625-9617-463E-9E07-F940E253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0DDD54-3425-4F04-8242-97BEC06F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6B7A26-DB4B-4C67-8543-C538D3FD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B795AE-313E-4391-951C-24BFE13C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4B2CD7-AA9D-4F33-9D94-458B03A1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67F9F6-4CE3-4B52-96F9-1F40EAB0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227137-4B65-4EDE-979E-C92684DF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34B4DD-77A3-432C-B981-F85CF9AF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209B46-653D-4F20-9069-A4DF0416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80CA1D-09AD-4E69-9E36-3173C045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ABB242-DD4B-4E56-8F89-4DD3E8FB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91580C-AFDE-457F-BDBF-D66FEB37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FB28AB-24E7-4867-9031-4072B271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C48C86-E4B1-455A-9B55-EF570CF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EE7308-8F32-43EB-B906-E2F3D6C0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228F58-74C2-4C76-9171-FF3655F7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AADF3D-00AC-4B06-9B9E-6AFCAD29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A7CE97-6E89-405F-AD29-F4BB5C8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5FABBC-AB3E-4B7A-B35D-60245140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4E115E-9742-481F-AFAF-7483BFBF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4AC77A-D515-465C-B409-8639F021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978CB2-8DF0-4D5E-9949-3FAF2798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8FCC7A-779C-45DF-B81C-1135FAA4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E87139-8ED7-4C56-B10B-E35396BB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9094C1-96DE-44C2-A746-5017373E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58B66C-4005-4A12-B69C-AB33D0C4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CE94C2-A232-4CE1-AC33-6769F27F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6AF61B-4239-4CDE-9141-44A49BD6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AB8AFD-4FAB-4E1E-97D2-A9A80D71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D1B8D4-EC36-4B9B-82C1-838E7D78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37E05D-558A-47D8-AD13-CDC8547B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EB960E-73B9-4E91-8CBE-36F4FECA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4AC1C7-772C-4E60-B6B2-8BF3D908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337AA8-4DD3-4506-9338-0F821795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DB7664-B5F7-401D-8F60-064925F2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5014-3016-4B06-93BE-97370E6F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9914-241C-4D48-9DE6-19B6836D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653F-F7B2-4448-93C9-EB23234D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E21-7C78-4573-9B7A-68E3DEC5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E872-0E0E-4C02-9BAB-2FAE9D71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C54F-3A3F-4C58-B595-EB379903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73B6-4BDD-49B8-A65B-6B85BB15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6E5-878E-4EF7-A562-4DF64CAD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5A1F-A06E-410D-AA69-60072888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E904-1B41-4C1E-BC9E-44E2C73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BA91-FF2C-4189-9027-117B7D76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2D77-1A50-4938-A16F-F17FCF91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00CA-45F5-498A-99AF-E6259C11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A762B-BC02-4BBC-A94E-8C1D95F00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E09-49A4-4B86-B47D-F7FC03FC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08D0-E422-4FBD-8325-1E8AEF99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C93DD-DD50-4800-8515-8F32DA51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CCAC2-78A7-421D-8506-E1A0B137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A6CB-8A14-424D-933C-5E5B5F1F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1326-5CDF-48C3-A99D-29D849ED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20F77-AC61-4ED4-9853-0F986643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2035-A2A1-4293-96DB-2FF42612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3F2A1-844F-4AAC-ACC2-827CED90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48B3-29FB-4460-89C8-1B870254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A2BDF-A435-4536-AAA1-D5EC8200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F4B-89A9-41E6-A2A7-18AFA014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61284-8204-42DA-AA45-CB6FDC6A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EFCE-6072-46A8-979C-A296560D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58AC8-639F-42B9-A7DE-23E3B67B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C5AD4-00B8-4427-81E7-90D0DB4E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F6FF-2809-4FF5-ADDD-893E137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BBD80-876A-43C8-BAB2-3D66352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B93C4-AEAC-4B50-8C13-13C59C07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47171-4129-488E-ADB5-05CAF98C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0AB3-C51B-4470-8179-D8BE836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C30A0-67C1-4BCB-9D1B-BCFA2E4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604-9222-4F65-9F7F-2888EDD6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E2716-AE61-4764-AC9C-72AC2B1A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30CEA-82E7-43FF-B0E9-C507D996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0093B-AE9F-46BC-9EB7-6C0DEA1A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CB966-5D58-4677-B4A8-2738E8CA0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AD4CB-AD14-4819-BFE6-7DCCF0AD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2DCB-6D9C-4935-89BE-AA708B6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39081-2E59-4D79-B559-8E0D44FC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D1BED-CFF3-4B46-BED4-2CA4A2AD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94B4A-9684-42F4-8E76-D44DFA0B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83125-9CB7-4785-B1B0-C91CC7B9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C35B-C7EA-4ED9-B1B7-7E25BA7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77156-A962-4A9A-A89F-475A4EC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44C61-8537-4B06-ACB1-6F0B701B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87865-E81E-4169-BAC6-BB249897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01CBB-A644-4A51-89A8-7F9840F3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6B8C4-9759-4B6C-AB1F-8BB2C99F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572BE-7C33-4573-95AA-27192B646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0BEF3-6690-4F10-AC99-FA6FEF6D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79FDB-75DE-4D31-9473-263E5406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81AAE-5748-4A9F-B4D5-8881FDFA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19094-37F2-42C4-A38B-8DA0E0C9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439-1F58-4129-A317-D565B36A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70FA7-D88E-4E56-A2F5-0C579970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BEEAB-0D11-4822-9F7A-CCC9AD0D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D1110-DD75-48B4-BC97-BF51A3D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40614-AD24-4347-A3DF-15A26B0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6901C-220F-47FA-9A90-A0398044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B5B89-ADFA-4AD8-8ECE-CEDFE5EE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B351B-D854-403F-9EC0-2043D24B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0F4CD-13B2-4E0C-901F-D337BB62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64399-0BC1-455E-8F2D-25F77DF2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28CB5-76F1-4E94-BE58-29A644E0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FC0A-8A4B-4A40-B9AC-C5457A6D8D69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D4F9-52BA-45BB-A2EC-54A9E79AFC9D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664-A290-4197-B12A-5BF9A127A6BB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2FE3-038D-4C0E-B8E0-35BCB42A4467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2557-828E-460A-8F94-F7EB254ECE21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1A05-5380-45D2-8E4F-833B4683AB79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24846-D041-47A6-AC6B-6A0130E6888A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533F-A3B0-42C3-A213-A1FA3B337C95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673-E2C1-4D62-A21F-A18E2A7F9D2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73DF-2B11-4B0E-9A42-124991D3E3EA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9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E3A2-76A7-4894-9E2C-4F15770B14C3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4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5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6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E72C-DD52-4EE7-BC6D-15E80FF03E3D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1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1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2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2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3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4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1D1E-6100-4336-8B7A-DE2410541E45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8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9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58B0-E08B-4062-9095-D3CEE4274649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5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5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6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6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7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8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50E6-AE3F-4E1D-943D-38B3B5CF7A5B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2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3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3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4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3D81-255E-4FFC-9BC3-EC4D92918C22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76AF-36FD-4E8E-A3D7-CA3E7A1659A7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6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7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7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8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8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9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80E8-A8E4-429F-8B58-2B7EF617246E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4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4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4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5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5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6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0" name="PlaceHolder 1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2C05-F6F5-416C-88BA-F8BC90100BE5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1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1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2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2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3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3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1" name="PlaceHolder 1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C64F-3CC8-417D-B02C-600D7BDC198B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8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8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9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9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0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0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PlaceHolder 1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DE23-12D7-420C-8C5F-479DC752A8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BCC7-53E0-4D5E-87DE-F111FAD7DAC9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C21-DB99-49EC-8976-DBD06BD7AC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6A7D-5A0A-415B-8427-7C7C25B50185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7E08-B6C4-4FCB-901B-46D2FAFC71D6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E460-56D0-4378-9FEB-7C45BA33BD66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ED55-F1EE-419B-9567-4328ECF8AC96}" type="slidenum">
              <a:rPr b="0" lang="pt-P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857160" y="1213920"/>
            <a:ext cx="777240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COMPARATIVE </a:t>
            </a:r>
            <a:br>
              <a:rPr sz="4800"/>
            </a:b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      AND</a:t>
            </a:r>
            <a:br>
              <a:rPr sz="4800"/>
            </a:b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             SUPERLATIVE </a:t>
            </a:r>
            <a:br>
              <a:rPr sz="4800"/>
            </a:br>
            <a:r>
              <a:rPr b="0" lang="pt-PT" sz="4800" spc="-1" strike="noStrike">
                <a:solidFill>
                  <a:srgbClr val="17375e"/>
                </a:solidFill>
                <a:latin typeface="Narkisim"/>
                <a:ea typeface="Narkisim"/>
              </a:rPr>
              <a:t>                       ADJEC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2" name="Imagem 3" descr="tall_short.bmp"/>
          <p:cNvPicPr/>
          <p:nvPr/>
        </p:nvPicPr>
        <p:blipFill>
          <a:blip r:embed="rId1"/>
          <a:stretch/>
        </p:blipFill>
        <p:spPr>
          <a:xfrm>
            <a:off x="571680" y="3143160"/>
            <a:ext cx="3000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1640" y="378900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ant is the small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1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has 1 syllable we add the ending –est to the adjective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small + est = the small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est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hard + est = the hard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e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7" name="Picture 24" descr="MCj02331730000[1]"/>
          <p:cNvPicPr/>
          <p:nvPr/>
        </p:nvPicPr>
        <p:blipFill>
          <a:blip r:embed="rId1"/>
          <a:stretch/>
        </p:blipFill>
        <p:spPr>
          <a:xfrm>
            <a:off x="5867280" y="1484280"/>
            <a:ext cx="149544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356000" y="422064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hippo is the fatt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40384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2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 one syllable adjective ends with a consonant + a vowel + a consonant you must double the last consonant and ad –es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ig + est = the big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g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at + est = the fa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0" name="Picture 10" descr="hippo"/>
          <p:cNvPicPr/>
          <p:nvPr/>
        </p:nvPicPr>
        <p:blipFill>
          <a:blip r:embed="rId1"/>
          <a:stretch/>
        </p:blipFill>
        <p:spPr>
          <a:xfrm>
            <a:off x="5867280" y="1773360"/>
            <a:ext cx="1295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175280" y="4005000"/>
            <a:ext cx="496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elephant is the heavie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3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ends with a “y”, remove the “y” and add –iest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happy –y + iest = the happ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unny –y + iest = the funn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st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3" name="Picture 8" descr="elefante"/>
          <p:cNvPicPr/>
          <p:nvPr/>
        </p:nvPicPr>
        <p:blipFill>
          <a:blip r:embed="rId1"/>
          <a:stretch/>
        </p:blipFill>
        <p:spPr>
          <a:xfrm>
            <a:off x="5580000" y="1484280"/>
            <a:ext cx="20955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858920" y="4365360"/>
            <a:ext cx="34578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mic Sans MS"/>
              </a:rPr>
              <a:t>The airplane is the most expens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68360" y="62028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4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has two syllables or more without a “y” then add the word “most” before the word.  If the adjective ends with a “y”, you will only add the word “most” if it has three syllables or more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eautiful + most = the most beautiful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expensive + most = the most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expensive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satisfactory + most = the most satisfacto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6" name="Picture 8" descr="aviao"/>
          <p:cNvPicPr/>
          <p:nvPr/>
        </p:nvPicPr>
        <p:blipFill>
          <a:blip r:embed="rId1"/>
          <a:stretch/>
        </p:blipFill>
        <p:spPr>
          <a:xfrm>
            <a:off x="5003640" y="692280"/>
            <a:ext cx="302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Rule 5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.  There are a few exceptions.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good = the best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bad = the worst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far = the farthe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/>
          </p:nvPr>
        </p:nvSpPr>
        <p:spPr>
          <a:xfrm>
            <a:off x="42876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Remember, when using a superlative you must always precede it with the word “the”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Toyota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smallest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Ford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biggest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Brad Pitt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most handsome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airplane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most expensive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Jim Carrey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he funniest.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c0504d"/>
                </a:solidFill>
                <a:latin typeface="Constantia"/>
              </a:rPr>
              <a:t>Compara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826920" y="1213920"/>
            <a:ext cx="756144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Comparatives are used to show the difference betw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two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objects.  Let’s say that I have two cars.  I have a little Toyota and a big Ford.  A comparative is used to show the difference between the two. The Ford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big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so we can say </a:t>
            </a:r>
            <a:r>
              <a:rPr b="0" lang="en-US" sz="2800" spc="-1" strike="noStrike">
                <a:solidFill>
                  <a:srgbClr val="cc0099"/>
                </a:solidFill>
                <a:latin typeface="Pooh"/>
              </a:rPr>
              <a:t>“the Ford is bigger than the Toyota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 Because the Toyota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small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, we can say </a:t>
            </a:r>
            <a:r>
              <a:rPr b="0" lang="en-US" sz="2800" spc="-1" strike="noStrike">
                <a:solidFill>
                  <a:srgbClr val="006600"/>
                </a:solidFill>
                <a:latin typeface="Pooh"/>
              </a:rPr>
              <a:t>“The Toyota is smaller than the Ford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To learn to use these we need to learn five basic rules.</a:t>
            </a:r>
            <a:r>
              <a:rPr b="0" lang="en-US" sz="2800" spc="-1" strike="noStrike">
                <a:solidFill>
                  <a:srgbClr val="000066"/>
                </a:solidFill>
                <a:latin typeface="CalvinsHa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Rule 1. If an adjective has 1 syllable we add the ending –er to the adjecti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i.e. small + er = small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er 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i.e. hard + er = hard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er 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6" name="Picture 8" descr="MCj02331730000[1]"/>
          <p:cNvPicPr/>
          <p:nvPr/>
        </p:nvPicPr>
        <p:blipFill>
          <a:blip r:embed="rId1"/>
          <a:stretch/>
        </p:blipFill>
        <p:spPr>
          <a:xfrm>
            <a:off x="7236000" y="2276640"/>
            <a:ext cx="1081080" cy="122364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hippo"/>
          <p:cNvPicPr/>
          <p:nvPr/>
        </p:nvPicPr>
        <p:blipFill>
          <a:blip r:embed="rId2"/>
          <a:stretch/>
        </p:blipFill>
        <p:spPr>
          <a:xfrm>
            <a:off x="5148360" y="836640"/>
            <a:ext cx="1512720" cy="2881440"/>
          </a:xfrm>
          <a:prstGeom prst="rect">
            <a:avLst/>
          </a:prstGeom>
          <a:ln w="0">
            <a:noFill/>
          </a:ln>
        </p:spPr>
      </p:pic>
      <p:sp>
        <p:nvSpPr>
          <p:cNvPr id="1658" name="Text Box 10"/>
          <p:cNvSpPr/>
          <p:nvPr/>
        </p:nvSpPr>
        <p:spPr>
          <a:xfrm>
            <a:off x="5003640" y="443700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336600"/>
                </a:solidFill>
                <a:latin typeface="Comic Sans MS"/>
                <a:ea typeface="Arial"/>
              </a:rPr>
              <a:t>The ant is smaller than the hip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/>
          </p:nvPr>
        </p:nvSpPr>
        <p:spPr>
          <a:xfrm>
            <a:off x="457200" y="1500120"/>
            <a:ext cx="403848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2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 one syllable adjective ends with a consonant + a vowel + a consonant you must double the last consonant and then ad –er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ig + er = big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ger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an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at + er = fa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ter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0" name="Picture 8" descr="elefante"/>
          <p:cNvPicPr/>
          <p:nvPr/>
        </p:nvPicPr>
        <p:blipFill>
          <a:blip r:embed="rId1"/>
          <a:stretch/>
        </p:blipFill>
        <p:spPr>
          <a:xfrm>
            <a:off x="4643280" y="1413000"/>
            <a:ext cx="2095560" cy="21333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9" descr="j0215498"/>
          <p:cNvPicPr/>
          <p:nvPr/>
        </p:nvPicPr>
        <p:blipFill>
          <a:blip r:embed="rId2"/>
          <a:stretch/>
        </p:blipFill>
        <p:spPr>
          <a:xfrm>
            <a:off x="7020000" y="1052640"/>
            <a:ext cx="1417680" cy="2577960"/>
          </a:xfrm>
          <a:prstGeom prst="rect">
            <a:avLst/>
          </a:prstGeom>
          <a:ln w="0">
            <a:noFill/>
          </a:ln>
        </p:spPr>
      </p:pic>
      <p:sp>
        <p:nvSpPr>
          <p:cNvPr id="1662" name="Text Box 10"/>
          <p:cNvSpPr/>
          <p:nvPr/>
        </p:nvSpPr>
        <p:spPr>
          <a:xfrm>
            <a:off x="4500720" y="422100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660066"/>
                </a:solidFill>
                <a:latin typeface="Comic Sans MS"/>
                <a:ea typeface="Arial"/>
              </a:rPr>
              <a:t>The elephant is fatter than the giraf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3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ends with a “y”, remove the “y” and add –ier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happy –y + ier =  happ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r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an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funny –y + ier =  funn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ier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Text Box 11"/>
          <p:cNvSpPr/>
          <p:nvPr/>
        </p:nvSpPr>
        <p:spPr>
          <a:xfrm>
            <a:off x="4786200" y="4221000"/>
            <a:ext cx="3929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9999"/>
                </a:solidFill>
                <a:latin typeface="Comic Sans MS"/>
                <a:ea typeface="Arial"/>
              </a:rPr>
              <a:t>The girl is happier than the duck</a:t>
            </a:r>
            <a:r>
              <a:rPr b="1" lang="pt-PT" sz="3200" spc="-1" strike="noStrike">
                <a:solidFill>
                  <a:srgbClr val="009999"/>
                </a:solidFill>
                <a:latin typeface="Pooh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5" name="Picture 12" descr="j0232431"/>
          <p:cNvPicPr/>
          <p:nvPr/>
        </p:nvPicPr>
        <p:blipFill>
          <a:blip r:embed="rId1"/>
          <a:stretch/>
        </p:blipFill>
        <p:spPr>
          <a:xfrm>
            <a:off x="4500720" y="191628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13" descr="j0084306"/>
          <p:cNvPicPr/>
          <p:nvPr/>
        </p:nvPicPr>
        <p:blipFill>
          <a:blip r:embed="rId2"/>
          <a:stretch/>
        </p:blipFill>
        <p:spPr>
          <a:xfrm>
            <a:off x="6804000" y="1557360"/>
            <a:ext cx="183204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alibri"/>
              </a:rPr>
              <a:t>Rule 4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.  If an adjective has two syllables or more without a “y” then add the word “more” before the word.  If the adjective ends with a “y”, you will only add the word “more” if it has three syllables or more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beautiful + more =  more beautiful 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expensive + more =  more expensive than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i.e. satisfactory + more = more satisfactory th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8" name="Picture 8" descr="na00649_"/>
          <p:cNvPicPr/>
          <p:nvPr/>
        </p:nvPicPr>
        <p:blipFill>
          <a:blip r:embed="rId1"/>
          <a:stretch/>
        </p:blipFill>
        <p:spPr>
          <a:xfrm>
            <a:off x="7020000" y="1413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9" descr="na00656_"/>
          <p:cNvPicPr/>
          <p:nvPr/>
        </p:nvPicPr>
        <p:blipFill>
          <a:blip r:embed="rId2"/>
          <a:stretch/>
        </p:blipFill>
        <p:spPr>
          <a:xfrm>
            <a:off x="5219640" y="2349360"/>
            <a:ext cx="1152720" cy="1224000"/>
          </a:xfrm>
          <a:prstGeom prst="rect">
            <a:avLst/>
          </a:prstGeom>
          <a:ln w="0">
            <a:noFill/>
          </a:ln>
        </p:spPr>
      </p:pic>
      <p:sp>
        <p:nvSpPr>
          <p:cNvPr id="1670" name="Text Box 10"/>
          <p:cNvSpPr/>
          <p:nvPr/>
        </p:nvSpPr>
        <p:spPr>
          <a:xfrm>
            <a:off x="4786200" y="3714840"/>
            <a:ext cx="38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66"/>
                </a:solidFill>
                <a:latin typeface="Comic Sans MS"/>
                <a:ea typeface="Arial"/>
              </a:rPr>
              <a:t>The butterfly is more beautiful than the fr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Text Box 8"/>
          <p:cNvSpPr/>
          <p:nvPr/>
        </p:nvSpPr>
        <p:spPr>
          <a:xfrm>
            <a:off x="971640" y="1557360"/>
            <a:ext cx="68403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alibri"/>
              </a:rPr>
              <a:t>Rule 5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.  There are a few exceptions.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good = better tha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bad = worse than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Calibri"/>
              </a:rPr>
              <a:t>far = farther th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Text Box 4"/>
          <p:cNvSpPr/>
          <p:nvPr/>
        </p:nvSpPr>
        <p:spPr>
          <a:xfrm>
            <a:off x="642960" y="500040"/>
            <a:ext cx="755964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Remember, when using a comparative you must always follow it with the word “than”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Toyota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smaller than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e Ford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The Ford is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Calibri"/>
              </a:rPr>
              <a:t>bigger than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the Toyota.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ant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smaller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hip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elephant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fatter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giraf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girl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happier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du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The butterfly is </a:t>
            </a:r>
            <a:r>
              <a:rPr b="0" lang="pt-PT" sz="2000" spc="-1" strike="noStrike" u="sng">
                <a:solidFill>
                  <a:srgbClr val="000066"/>
                </a:solidFill>
                <a:uFillTx/>
                <a:latin typeface="Calibri"/>
              </a:rPr>
              <a:t>more beautiful than</a:t>
            </a:r>
            <a:r>
              <a:rPr b="0" lang="pt-PT" sz="2000" spc="-1" strike="noStrike">
                <a:solidFill>
                  <a:srgbClr val="000066"/>
                </a:solidFill>
                <a:latin typeface="Calibri"/>
              </a:rPr>
              <a:t> the fro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Poo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1859c"/>
                </a:solidFill>
                <a:latin typeface="Constantia"/>
              </a:rPr>
              <a:t>Superlativ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 type="subTitle"/>
          </p:nvPr>
        </p:nvSpPr>
        <p:spPr>
          <a:xfrm>
            <a:off x="971280" y="1557000"/>
            <a:ext cx="698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Superlatives are used to show the difference between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more than two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objects.  Let’s say that I have three cars.  I have a little Toyota, a medium size Jeep and a big Ford.  A superlative is used to show the differences that exist in the group. The Ford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big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 so we can say </a:t>
            </a:r>
            <a:r>
              <a:rPr b="0" lang="en-US" sz="2800" spc="-1" strike="noStrike">
                <a:solidFill>
                  <a:srgbClr val="cc0099"/>
                </a:solidFill>
                <a:latin typeface="Pooh"/>
              </a:rPr>
              <a:t>“the Ford is the biggest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 Because the Toyota is </a:t>
            </a:r>
            <a:r>
              <a:rPr b="0" lang="en-US" sz="2800" spc="-1" strike="noStrike" u="sng">
                <a:solidFill>
                  <a:srgbClr val="000066"/>
                </a:solidFill>
                <a:uFillTx/>
                <a:latin typeface="Pooh"/>
              </a:rPr>
              <a:t>small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, we can say </a:t>
            </a:r>
            <a:r>
              <a:rPr b="0" lang="en-US" sz="2800" spc="-1" strike="noStrike">
                <a:solidFill>
                  <a:srgbClr val="006600"/>
                </a:solidFill>
                <a:latin typeface="Pooh"/>
              </a:rPr>
              <a:t>“The Toyota is the smallest”</a:t>
            </a:r>
            <a:r>
              <a:rPr b="0" lang="en-US" sz="2800" spc="-1" strike="noStrike">
                <a:solidFill>
                  <a:srgbClr val="000066"/>
                </a:solidFill>
                <a:latin typeface="Pooh"/>
              </a:rPr>
              <a:t>. To learn to use these we need to learn five basic rules.</a:t>
            </a:r>
            <a:r>
              <a:rPr b="0" lang="en-US" sz="2800" spc="-1" strike="noStrike">
                <a:solidFill>
                  <a:srgbClr val="000066"/>
                </a:solidFill>
                <a:latin typeface="CalvinsHa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0:42:25Z</dcterms:created>
  <dc:creator>Ditza</dc:creator>
  <dc:description/>
  <dc:language>en-US</dc:language>
  <cp:lastModifiedBy>Nadia Williams</cp:lastModifiedBy>
  <dcterms:modified xsi:type="dcterms:W3CDTF">2014-03-19T14:37:33Z</dcterms:modified>
  <cp:revision>9</cp:revision>
  <dc:subject/>
  <dc:title>COMPARATIVE  AND  SUPERLATIVE  ADJECTIV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